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9680" y="400608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792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184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436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968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184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436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9320" y="352440"/>
            <a:ext cx="7381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7792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9680" y="400608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7792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9184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7436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68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9184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7436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9320" y="352440"/>
            <a:ext cx="7381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792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482760" indent="-289080">
              <a:spcBef>
                <a:spcPts val="1125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2" marL="752400" indent="3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3" marL="113652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4" marL="15177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5" marL="15177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6" marL="15177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63040" y="6540480"/>
            <a:ext cx="237960" cy="236520"/>
          </a:xfrm>
          <a:prstGeom prst="rect">
            <a:avLst/>
          </a:prstGeom>
          <a:solidFill>
            <a:srgbClr val="80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9A2-A0ED-46E0-9B0F-7426170E4C64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2491" r="0" b="0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-28440"/>
            <a:ext cx="9144000" cy="6846840"/>
            <a:chOff x="0" y="-28440"/>
            <a:chExt cx="9144000" cy="68468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-2844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rcRect l="65523" t="56941" r="15521" b="17224"/>
            <a:stretch/>
          </p:blipFill>
          <p:spPr>
            <a:xfrm>
              <a:off x="5991120" y="3633840"/>
              <a:ext cx="1733760" cy="17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168120" y="1336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f"/>
                </a:solidFill>
                <a:latin typeface="Arial"/>
              </a:rPr>
              <a:t>FTTH European Panora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f"/>
                </a:solidFill>
                <a:latin typeface="Arial"/>
              </a:rPr>
              <a:t>Status &amp;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5436a"/>
                </a:solidFill>
                <a:latin typeface="Arial"/>
              </a:rPr>
              <a:t>FTTH Council Europe Annual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</a:rPr>
              <a:t>Paris, 28 Februar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5486400"/>
            <a:ext cx="3124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Roland MON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Head of Broadb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r.montagne@idat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6400" y="580392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f"/>
                </a:solidFill>
                <a:latin typeface="Arial"/>
              </a:rPr>
              <a:t>Familje Bostader: </a:t>
            </a:r>
            <a:r>
              <a:rPr b="1" lang="en-US" sz="2000" spc="-1" strike="noStrike">
                <a:solidFill>
                  <a:srgbClr val="80000f"/>
                </a:solidFill>
                <a:latin typeface="Arial"/>
              </a:rPr>
              <a:t>Housing</a:t>
            </a:r>
            <a:r>
              <a:rPr b="1" lang="fr-FR" sz="2000" spc="-1" strike="noStrike">
                <a:solidFill>
                  <a:srgbClr val="8000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f"/>
                </a:solidFill>
                <a:latin typeface="Arial"/>
              </a:rPr>
              <a:t>Company</a:t>
            </a:r>
            <a:r>
              <a:rPr b="1" lang="fr-FR" sz="2000" spc="-1" strike="noStrike">
                <a:solidFill>
                  <a:srgbClr val="80000f"/>
                </a:solidFill>
                <a:latin typeface="Arial"/>
              </a:rPr>
              <a:t> in Stockholm</a:t>
            </a: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123560"/>
            <a:ext cx="8978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827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r" pos="717552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5436a"/>
                </a:solidFill>
                <a:latin typeface="Arial"/>
              </a:rPr>
              <a:t>Exemple of Open Network Business Model:  Familje Bost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3760" y="1427040"/>
            <a:ext cx="8275320" cy="4917240"/>
            <a:chOff x="293760" y="1427040"/>
            <a:chExt cx="8275320" cy="4917240"/>
          </a:xfrm>
        </p:grpSpPr>
        <p:sp>
          <p:nvSpPr>
            <p:cNvPr id="118" name=""/>
            <p:cNvSpPr/>
            <p:nvPr/>
          </p:nvSpPr>
          <p:spPr>
            <a:xfrm>
              <a:off x="358920" y="5105520"/>
              <a:ext cx="1123920" cy="6537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3760" y="4759200"/>
              <a:ext cx="1123920" cy="654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52520" y="4444920"/>
              <a:ext cx="1124280" cy="654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Com.oper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760" y="4444920"/>
              <a:ext cx="1123920" cy="654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PROV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7345440" y="2320920"/>
            <a:ext cx="1036440" cy="207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45440" y="2320920"/>
                      <a:ext cx="1036440" cy="20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7476480" y="4360680"/>
              <a:ext cx="86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HO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791960" y="2273400"/>
              <a:ext cx="900000" cy="1156320"/>
              <a:chOff x="4791960" y="2273400"/>
              <a:chExt cx="900000" cy="1156320"/>
            </a:xfrm>
          </p:grpSpPr>
          <p:sp>
            <p:nvSpPr>
              <p:cNvPr id="126" name=""/>
              <p:cNvSpPr/>
              <p:nvPr/>
            </p:nvSpPr>
            <p:spPr>
              <a:xfrm>
                <a:off x="5206680" y="2273400"/>
                <a:ext cx="430560" cy="916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978e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5400" spc="-1" strike="noStrike">
                    <a:solidFill>
                      <a:srgbClr val="007600"/>
                    </a:solidFill>
                    <a:latin typeface="MS Outlook"/>
                    <a:ea typeface="MS Outlook"/>
                  </a:rPr>
                  <a:t>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91960" y="3122640"/>
                <a:ext cx="90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400" spc="-1" strike="noStrike">
                    <a:solidFill>
                      <a:srgbClr val="000000"/>
                    </a:solidFill>
                    <a:latin typeface="Arial"/>
                  </a:rPr>
                  <a:t>TENA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441440" y="4775040"/>
              <a:ext cx="809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6680" y="4775040"/>
              <a:ext cx="1096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87760" y="4444920"/>
              <a:ext cx="1123920" cy="654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TOK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27880" y="4775040"/>
              <a:ext cx="1056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684840" y="2319120"/>
              <a:ext cx="3240" cy="2454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56360" y="3946320"/>
              <a:ext cx="1123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56360" y="3502080"/>
              <a:ext cx="1123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56360" y="3031920"/>
              <a:ext cx="1123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56360" y="2652480"/>
              <a:ext cx="1123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49520" y="1865160"/>
              <a:ext cx="109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OP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br>
                <a:rPr sz="1400"/>
              </a:b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6" idx="0"/>
              <a:endCxn id="124" idx="3"/>
            </p:cNvCxnSpPr>
            <p:nvPr/>
          </p:nvCxnSpPr>
          <p:spPr>
            <a:xfrm flipH="1" rot="16200000">
              <a:off x="5708520" y="1986480"/>
              <a:ext cx="2346840" cy="2918520"/>
            </a:xfrm>
            <a:prstGeom prst="bentConnector4">
              <a:avLst>
                <a:gd name="adj1" fmla="val -24087"/>
                <a:gd name="adj2" fmla="val 10782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7110720" y="1427040"/>
              <a:ext cx="107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6 $ /mon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H="1" flipV="1" rot="5400000">
              <a:off x="5249520" y="2455920"/>
              <a:ext cx="221400" cy="5093640"/>
            </a:xfrm>
            <a:prstGeom prst="bentConnector3">
              <a:avLst>
                <a:gd name="adj1" fmla="val -428664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4465080" y="6037200"/>
              <a:ext cx="265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~7 $ /paying customer/mon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26" idx="1"/>
              <a:endCxn id="121" idx="0"/>
            </p:cNvCxnSpPr>
            <p:nvPr/>
          </p:nvCxnSpPr>
          <p:spPr>
            <a:xfrm flipV="1" rot="10800000">
              <a:off x="855720" y="2730240"/>
              <a:ext cx="4100760" cy="17150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2480760" y="2685960"/>
              <a:ext cx="181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~36 $ /month (S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For Internet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21" idx="7"/>
              <a:endCxn id="120" idx="0"/>
            </p:cNvCxnSpPr>
            <p:nvPr/>
          </p:nvCxnSpPr>
          <p:spPr>
            <a:xfrm flipH="1" flipV="1" rot="5400000">
              <a:off x="1985400" y="3710880"/>
              <a:ext cx="96120" cy="1562760"/>
            </a:xfrm>
            <a:prstGeom prst="bentConnector3">
              <a:avLst>
                <a:gd name="adj1" fmla="val 3398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1206360" y="3919320"/>
              <a:ext cx="173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~21 $ /month (IS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86640" y="2081160"/>
              <a:ext cx="1764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PRICES INCL. V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24" idx="1"/>
              <a:endCxn id="130" idx="4"/>
            </p:cNvCxnSpPr>
            <p:nvPr/>
          </p:nvCxnSpPr>
          <p:spPr>
            <a:xfrm flipH="1">
              <a:off x="5049360" y="4619520"/>
              <a:ext cx="2424960" cy="480240"/>
            </a:xfrm>
            <a:prstGeom prst="bentConnector4">
              <a:avLst>
                <a:gd name="adj1" fmla="val -59"/>
                <a:gd name="adj2" fmla="val 1476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4987440" y="5276880"/>
              <a:ext cx="18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~ 3 $ /tenant/mon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730600" y="632448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 - 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in Europe - Overview : Player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201680"/>
            <a:ext cx="72104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Breakdown of homes passed for FTTH/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73320" y="6334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97360" y="499104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0560" y="595620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1) involved in FTTX Project or Pilot or Commercial deployments. FTTx refers here to Fibre-to-the-Home, Fibre-to-the-Building, Fibre-to-the-Office or Fibre-to-the-Dormitory. A total of 201 players involved in FTTx initiatives, excluding FTTN, FTTC, FTTLA (cable) and VDSL/VDSL2 deployments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1040" y="1568520"/>
            <a:ext cx="6942240" cy="4378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826160" y="5626080"/>
            <a:ext cx="990360" cy="673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4911840"/>
            <a:ext cx="6248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5436a"/>
                </a:solidFill>
                <a:latin typeface="Arial"/>
              </a:rPr>
              <a:t>Europe’s FTTH lead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/B subscribers in Europe by country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86760" y="55688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6016680"/>
            <a:ext cx="7772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Here FTTx means Fiber-to-the-Home or Fiber-to-the-Building or Fiber-to-the-Office or Fiber-to-the-Dormi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Excluding VDSL / VDSL2, FTTC, FTTN deployments by incumb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**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Excluding FTTLA deploy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00280" y="870120"/>
          <a:ext cx="7589520" cy="53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870120"/>
                    <a:ext cx="758952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/B Home Passed in Europe by country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86760" y="55688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6080040"/>
            <a:ext cx="7772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Here FTTx means Fiber-to-the-Home or Fiber-to-the-Building or Fiber-to-the-Office or Fiber-to-the-Dormi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Excluding VDSL / VDSL2, FTTC, FTTN deployments by incumb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**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Excluding FTTLA deploy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49160" y="857160"/>
          <a:ext cx="758988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857160"/>
                    <a:ext cx="758988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7440" y="1943280"/>
            <a:ext cx="1270080" cy="407664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2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leadership in Europe: Countries 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7040" y="123840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39760" indent="-239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he majority of subscribers is still concentrated in 5 countries - Sweden, Italy, Norway, the Netherlands and Denmark: 86% of FTTH/B subscri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8280" y="3556080"/>
            <a:ext cx="845820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53080" indent="-25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080" indent="-25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080" indent="-25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… </a:t>
            </a:r>
            <a:r>
              <a:rPr b="1" lang="en-US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with a disparity of penetration rate between countries: 60.6% for Norway and 44.8% for Sweden vs  13.2% for Italy or 13.7% for Den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2880">
              <a:lnSpc>
                <a:spcPct val="100000"/>
              </a:lnSpc>
              <a:spcBef>
                <a:spcPts val="300"/>
              </a:spcBef>
              <a:buClr>
                <a:srgbClr val="05436a"/>
              </a:buClr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3080" indent="-25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In terms of Homes/Buildings passed, leading countries like Denmark and Norway showed a strong growth of 139% and 104% respectively between June 2006 and end 2007 and the same for the Netherlands with + 16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080" indent="-25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Other pioneer countries like Italy and Sweden are now presenting slow growths in terms of Homes Passed (respectively 28% and 22%)</a:t>
            </a:r>
            <a:r>
              <a:rPr b="1" lang="fr-FR" sz="1800" spc="-1" strike="noStrike">
                <a:solidFill>
                  <a:srgbClr val="05436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49480" y="2266920"/>
            <a:ext cx="6387840" cy="1979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2160" y="1803240"/>
            <a:ext cx="516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netration rate subscribers/Homes passed for European leaders (end 20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46520" y="4114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68760" y="408924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leadership in Europe: Technologie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44160"/>
            <a:ext cx="830592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Technical architecture of European FTTx deployments: at end 2007 Ethernet still dominates PON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jority of the FTTH rollouts in the Nord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projects based on Ethernet like Iliad/Free in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Eastern Europe, Telekom Slovenia also selected 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But PON selected for several major projects is now deployed in Europe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Spain, the government of Asturias has chosen an Open Access Network GPON for its infrastructure (33 000 Homes Pa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ergiMidt, a Danish power utility has also selected a BPON/GPON technology (50 000 Homes Passed). Also in Denmark SEF is deploying EPON (14 000 Homes Pa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 Telecom after testing FTTH / GPON since June 2006, is now deploying (146 000 Homes Pa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uf cegetel in France is deploying both technologies: Ethernet &amp; GPON (120 000 Homes Pa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lenor, Telefonica have selected GPON rec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4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8720" y="5257800"/>
            <a:ext cx="8035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436a"/>
                </a:solidFill>
                <a:latin typeface="Arial"/>
              </a:rPr>
              <a:t>Conclusion and FTTH Dynamics for Europ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61024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16000" y="1168560"/>
            <a:ext cx="858528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80000"/>
              </a:lnSpc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The panorama of FTTx deployments in Europe at end 2007 shows that the FTTH market in Europe continues to grow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pecially in terms of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mes Passe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+79%) reaching around 5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scribers shows a +23% growth but are concentrated i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sm of countries li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rw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FTTH subscribers x 2.5 in 18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olvement of 4 leading Broadband players i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deploying FTTH/B and key role played by the Government and ARC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ynamic Eastern Europ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untries like Slovenia (2 players involved), Slovakia, Czech Republic and Po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Nevertheless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a little more than 1 million FTTH/B subscribers at end 2007, Europe is still largely lagging behind the US (2 million FTTH subscribers) and Japan (11 million FTTH/B subscrib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ong Barriers remains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24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ilitate access to MDU for operato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24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tualise Civil Engineer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24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Business Case of FTTH outside Urban and Suburban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24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ulation: wh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x ante “remedies”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U will propose? Role of the European Telecom Market Author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Dynamics for Europe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85471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We have seen encouraging signs in 2007 for the Future of FTTH in Europe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major European countries li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re three major City Networks announced ambitious FTTH roll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re Government may intervene to promote the deployment of FTTH in front of the reluctance of the main British p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rge Incumbe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nouncing that they will rollout FTTH in the near Future (Telefonica, Telenor) and others that first choose to deploy VDSL, are now launching FTTH deployments (KPN) or considering laun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 compan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nfirmed that they will also play a leading role in the future of FTTH deployments: Regge Fiber in the Netherlands or H20 networks in the 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lly, 2007 confirmed the leading role played by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unicipalities and Utilitie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pecially in the Nordics and Benelux throug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Open Access Mode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ocal Bodies will be also key players in order t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utualise civil engineer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elated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250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</a:rPr>
              <a:t>Study Background: Objectives, available results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lvl="1" marL="830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</a:rPr>
              <a:t>FTTH in Europe: Overview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yers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</a:rPr>
              <a:t>Europe’s FTTH leaders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ies subscriber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</a:rPr>
              <a:t>Conclusion &amp; FTTH Dynamics for Europe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-28440"/>
            <a:ext cx="9144000" cy="6846840"/>
            <a:chOff x="0" y="-28440"/>
            <a:chExt cx="9144000" cy="684684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0" y="-2844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rcRect l="65523" t="56941" r="15521" b="17224"/>
            <a:stretch/>
          </p:blipFill>
          <p:spPr>
            <a:xfrm>
              <a:off x="5991120" y="3633840"/>
              <a:ext cx="1733760" cy="17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168120" y="1336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5436a"/>
                </a:solidFill>
                <a:latin typeface="Arial"/>
              </a:rPr>
              <a:t>FTTH Council Europe Annual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</a:rPr>
              <a:t>Paris, 28 Februar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5486400"/>
            <a:ext cx="3124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Roland MON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Head of Broadb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r.montagne@idat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5038560"/>
            <a:ext cx="624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436a"/>
                </a:solidFill>
                <a:latin typeface="Arial"/>
              </a:rPr>
              <a:t>Study Background: Objectives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436a"/>
                </a:solidFill>
                <a:latin typeface="Arial"/>
              </a:rPr>
              <a:t>available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Background of the Study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760" y="109548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IDATE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has been commissioned by the FTTH Council Europe to provide a comprehensive overview of FTTH deployments in Europe (EU 27 + Norway, Iceland, Switzerland &amp; Andorra) at end 2007 (4th edition)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Methodology used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628560" indent="-182520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k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 contact with FTTH players (mails, phone intervi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exchange with FTTH Council Europ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 contact with IDATE’s partners in several Europea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Objectives: to provide a complete summary of the status of FTTx in Europe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628560" indent="-182520" algn="just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new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 algn="just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racterize each project: organization, project leader, Key parameters (Homes and Buildings passed), Technical parameters, Financing &amp; Busin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 algn="just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distinguished FTTH/FTTB   and   FTTN+VDSL or FTT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9320" y="453960"/>
            <a:ext cx="73818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Available result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201 projects described     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527200"/>
            <a:ext cx="2210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0543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</a:rPr>
              <a:t>Quali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508640"/>
            <a:ext cx="2362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0543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436a"/>
                </a:solidFill>
                <a:latin typeface="Arial"/>
              </a:rPr>
              <a:t>Quanti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60120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16280" y="900000"/>
            <a:ext cx="4249800" cy="4326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6680" y="4881600"/>
            <a:ext cx="3338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43040" y="4784760"/>
            <a:ext cx="6248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5436a"/>
                </a:solidFill>
                <a:latin typeface="Arial"/>
              </a:rPr>
              <a:t>FTTH in Europe: Over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in Europe - Overview: Project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9680" y="1136520"/>
            <a:ext cx="840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spcAft>
                <a:spcPts val="2001"/>
              </a:spcAft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IDATE has identified 201 FTTx projects in Europe of which 88 are new initiatives since mid 2005</a:t>
            </a:r>
            <a:endParaRPr b="1" lang="en-US" sz="16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001"/>
              </a:spcBef>
              <a:spcAft>
                <a:spcPts val="2001"/>
              </a:spcAft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Some significant FTTH/B &amp; VDSL European  deployments at end 2007</a:t>
            </a:r>
            <a:endParaRPr b="1" lang="en-US" sz="16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73600" y="624204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85000" y="2438280"/>
            <a:ext cx="0" cy="3353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93880" y="2295360"/>
            <a:ext cx="6487920" cy="3803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65960" y="2514600"/>
            <a:ext cx="0" cy="334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7000" y="5892840"/>
            <a:ext cx="64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in Europe - Overview: Global Figure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640" y="116820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  <a:ea typeface="Times New Roman"/>
              </a:rPr>
              <a:t>End 2007, 1 Million FTTH/B subscribers in the EU 31 and around 4.9 Million Homes Passed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  <a:ea typeface="Times New Roman"/>
              </a:rPr>
              <a:t>A growth of 23% in terms of subscribers and 79% in terms of Homes Passed compared to June 2006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  <a:ea typeface="Times New Roman"/>
              </a:rPr>
              <a:t>End of 2007, Deutsche Telekom covers 8 millions homes in Germany with FTTN + VDSL compared to 2.9 millions at mid 2006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436a"/>
                </a:solidFill>
                <a:latin typeface="Arial"/>
                <a:ea typeface="Times New Roman"/>
              </a:rPr>
              <a:t>End 2007 around of 19.2 Million Homes Passed with FTTx including VDSL &amp; FTTLA in Europe and 1.2 million FTTx subscribers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8160" y="6121440"/>
            <a:ext cx="189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35520" y="5265720"/>
            <a:ext cx="4130640" cy="797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6320" y="5288040"/>
            <a:ext cx="46800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in Europe - Overview: Player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5240" y="1273320"/>
            <a:ext cx="8534160" cy="50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Municipalities and Power utilities continued to initiate FTTx projects in 2007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… 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but significant deployments come now by alternative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Adding Fastweb (Italy), B2 (Sweden), Illiad/Free &amp; Neuf Cegetel (France) and T2 (Slovenia) FTTH subscribers at end 2007, we reach nearly 50% of the European FTTH subscribers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249"/>
              </a:spcBef>
              <a:buClr>
                <a:srgbClr val="05436a"/>
              </a:buClr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Open Network Models are often chosen by Municip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9440" y="53593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9200" y="3540240"/>
            <a:ext cx="7545240" cy="187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51440" y="4533840"/>
            <a:ext cx="3822480" cy="31752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5:22:49Z</dcterms:created>
  <dc:creator>Informatique</dc:creator>
  <dc:description/>
  <dc:language>en-US</dc:language>
  <cp:lastModifiedBy>Info</cp:lastModifiedBy>
  <dcterms:modified xsi:type="dcterms:W3CDTF">2008-02-26T23:40:16Z</dcterms:modified>
  <cp:revision>40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343921</vt:r8>
  </property>
  <property fmtid="{D5CDD505-2E9C-101B-9397-08002B2CF9AE}" pid="3" name="_AuthorEmail">
    <vt:lpwstr>floyd.wagoner@motorola.com</vt:lpwstr>
  </property>
  <property fmtid="{D5CDD505-2E9C-101B-9397-08002B2CF9AE}" pid="4" name="_AuthorEmailDisplayName">
    <vt:lpwstr>Wagoner Floyd-MGIA4664</vt:lpwstr>
  </property>
  <property fmtid="{D5CDD505-2E9C-101B-9397-08002B2CF9AE}" pid="5" name="_EmailSubject">
    <vt:lpwstr>Final version of the report</vt:lpwstr>
  </property>
  <property fmtid="{D5CDD505-2E9C-101B-9397-08002B2CF9AE}" pid="6" name="_NewReviewCycle">
    <vt:lpwstr/>
  </property>
</Properties>
</file>